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57B-8DAD-44F8-98A1-AE908AF09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84E9-8B6B-40BC-8C81-0B2E629B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C5FB-43D1-4B41-80DF-A609C963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0AB-22F2-4DF7-8B68-E518A16D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6056-F67C-46D1-AD40-0FD28BAF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ACE5-76B8-45E1-AE27-7332D5AE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AE6E-36E6-4128-9821-49C105E4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C502-AA6A-4FA1-B9F9-F1D62CF0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74C8-F098-48E4-840A-C6A366E2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6668-FD2D-477F-9034-607EA3026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F7E9-7EB8-491D-98DE-FDFCCED1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8E2-4B74-456E-9E39-A8AB40CA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88C10-82DB-452E-BA08-234D2547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CA37-F6ED-4E97-8556-1715E288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7A44-B6C1-4112-B96A-61BAEC7D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C786-294D-4F10-80E9-6A8134C6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419D-8014-4FC0-8A72-80351274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DBCE-F9CA-4F0D-8E4D-C8A2D7D3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1EAC-B7C7-498B-B427-2844F64A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0E91-E03F-4D46-82BF-6130D89F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2F66-837B-41C2-A907-D3A9FBC8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BC9D-5EE7-4DE0-9D5E-E1B619A8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AD4E-36D9-4239-9C06-C69BD15D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ED83-101B-4891-9197-AEC59C56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381360"/>
            <a:ext cx="198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35F8-0692-43B1-834A-BACA1CA2847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680" y="638136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81360"/>
            <a:ext cx="533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8746-8FD2-4EA4-B6B0-B324EE2982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FECA-2882-42E3-A02F-9322E44E1EF0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AD1E-678E-44BE-BB5D-BA1104E762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fn.org/index.cfm?pagename=brainBriefings_main" TargetMode="External"/><Relationship Id="rId2" Type="http://schemas.openxmlformats.org/officeDocument/2006/relationships/hyperlink" Target="http://www.zerobio.com/central/nervous_disorders.pdf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results?search_query=neurons&amp;search_type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tc.gsw.edu/faculty/gfisk/anim/actionpotential.swf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tc.gsw.edu/faculty/gfisk/anim/neurotransmission.swf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tc.gsw.edu/faculty/gfisk/anim/neuroanatomy.swf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earn.genetics.utah.edu/units/addiction/drugs/mouse.cfm" TargetMode="External"/><Relationship Id="rId2" Type="http://schemas.openxmlformats.org/officeDocument/2006/relationships/hyperlink" Target="http://faculty.washington.edu/chudler/flash/ua/spiderwebs.html" TargetMode="External"/><Relationship Id="rId3" Type="http://schemas.openxmlformats.org/officeDocument/2006/relationships/hyperlink" Target="http://www.nsta.org/publications/interactive/nerves/teachers/caffeine_critters_print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Kristen ITC"/>
              </a:rPr>
              <a:t>Nervous System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3337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Kristen ITC"/>
              </a:rPr>
              <a:t>Biology 122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Kristen ITC"/>
              </a:rPr>
              <a:t>Holyoke Walsh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4381560" cy="3066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366280" y="6491160"/>
            <a:ext cx="43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hebrain.mcgill.ca/flash/index_i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Kristen ITC"/>
              </a:rPr>
              <a:t>You Be the Doctor….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Kristen ITC"/>
              </a:rPr>
              <a:t>NS &amp; More.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Kristen ITC"/>
                <a:hlinkClick r:id="rId1"/>
              </a:rPr>
              <a:t>http://www.sfn.org/index.cfm?pagename=brainBriefings_main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Kristen IT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risten ITC"/>
              </a:rPr>
              <a:t>To complete above task u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zerobio.com/central/nervous_disorders.pd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copyright www.brainybetty.com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51FC-B409-4292-BC23-8B2D89275B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51A3F7-B41F-4537-BF45-3F30581CD5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9160" y="0"/>
            <a:ext cx="727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pbs.org/newshour/bb/science/july-dec04/brain_10-13.html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copyright www.brainybetty.com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D998-267B-4E69-91B4-8D6A0E0987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0C177-1FEC-4EDB-8D64-4F61FC017E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00400" y="609480"/>
            <a:ext cx="243828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Nerv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895120" y="2362320"/>
            <a:ext cx="8384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2362320"/>
            <a:ext cx="838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4038480"/>
            <a:ext cx="19810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4120" y="3886200"/>
            <a:ext cx="18288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44956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295280" y="46483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46483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copyright www.brainybetty.com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B9B6-65E1-4952-BD38-6E64F1386C3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F176C-D3F0-45BF-8225-E67147056E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risten ITC"/>
              </a:rPr>
              <a:t>Neur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Kristen ITC"/>
              </a:rPr>
              <a:t>Detailed Overview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Kristen ITC"/>
              </a:rPr>
              <a:t>http://itc.gsw.edu/faculty/gfisk/anim/neuronparts.sw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Kristen ITC"/>
              </a:rPr>
              <a:t>YouTube: “Neurons &amp; How They Work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Kristen ITC"/>
                <a:hlinkClick r:id="rId1"/>
              </a:rPr>
              <a:t>http://www.youtube.com/results?search_query=neurons&amp;search_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copyright www.brainybetty.com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EE15-86ED-4E98-8757-205F0C292B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DCBA1-2D27-4017-9E3F-33B6A7C3E3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risten ITC"/>
              </a:rPr>
              <a:t>Action Potential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Kristen ITC"/>
                <a:hlinkClick r:id="rId1"/>
              </a:rPr>
              <a:t>http://itc.gsw.edu/faculty/gfisk/anim/actionpotential.sw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ttp://youtube.com/watch?v=SCasruJT-DU&amp;feature=re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copyright www.brainybetty.com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CC92-92C4-4F33-9AB6-79B99507D6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AC614-36B7-4E9C-9EAC-B18D5034EB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risten ITC"/>
              </a:rPr>
              <a:t>Neurotransmi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Kristen ITC"/>
                <a:hlinkClick r:id="rId1"/>
              </a:rPr>
              <a:t>http://itc.gsw.edu/faculty/gfisk/anim/neurotransmission.sw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4724280"/>
            <a:ext cx="615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youtube.com/watch?v=HXx9qlJetSU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copyright www.brainybetty.com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835-2BAF-4B63-AAD6-32419BD31F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1067B-0838-45C8-8CDA-89A7BB4253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risten ITC"/>
              </a:rPr>
              <a:t>Neuroanato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Kristen ITC"/>
                <a:hlinkClick r:id="rId1"/>
              </a:rPr>
              <a:t>http://itc.gsw.edu/faculty/gfisk/anim/neuroanatomy.sw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copyright www.brainybetty.com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4C4-1726-4224-8B2A-988A49EC3D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BF32A-AF09-4C66-BC4F-BAF2A27A1B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Now..dissect a Sheep Bra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See for yourself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6933960" cy="384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copyright www.brainybetty.com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54F-A8B2-443C-9A32-956565DACF5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BD7DA-8780-4C77-89A2-0662E8E799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risten ITC"/>
              </a:rPr>
              <a:t>NS &amp; Dru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Kristen ITC"/>
                <a:hlinkClick r:id="rId1"/>
              </a:rPr>
              <a:t>http://learn.genetics.utah.edu/units/addiction/drugs/mouse.cf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Mice on Drugs…Check out Spiders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aculty.washington.edu/chudler/flash/ua/spiderweb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Kristen ITC"/>
              </a:rPr>
              <a:t>Time for you to look for yourself!  Daphnia on DRUG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nsta.org/publications/interactive/nerves/teachers/caffeine_critters_print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copyright www.brainybetty.com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AD6B-5D91-4D1C-B205-78E4CAEA51D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E0798-28D7-4A2A-A701-6FF970D0BC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3:20:32Z</dcterms:created>
  <dc:creator>lisa.holyokewalsh</dc:creator>
  <dc:description/>
  <dc:language>en-US</dc:language>
  <cp:lastModifiedBy>nbdoe</cp:lastModifiedBy>
  <dcterms:modified xsi:type="dcterms:W3CDTF">2008-05-07T15:04:48Z</dcterms:modified>
  <cp:revision>13</cp:revision>
  <dc:subject/>
  <dc:title>Nervous System </dc:title>
</cp:coreProperties>
</file>